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4.jpeg" ContentType="image/jpeg"/>
  <Override PartName="/ppt/media/image6.png" ContentType="image/png"/>
  <Override PartName="/ppt/media/image36.png" ContentType="image/png"/>
  <Override PartName="/ppt/media/image30.png" ContentType="image/png"/>
  <Override PartName="/ppt/media/image10.jpeg" ContentType="image/jpeg"/>
  <Override PartName="/ppt/media/image28.png" ContentType="image/png"/>
  <Override PartName="/ppt/media/image45.png" ContentType="image/png"/>
  <Override PartName="/ppt/media/image34.png" ContentType="image/png"/>
  <Override PartName="/ppt/media/image44.png" ContentType="image/png"/>
  <Override PartName="/ppt/media/image40.jpeg" ContentType="image/jpeg"/>
  <Override PartName="/ppt/media/image9.png" ContentType="image/png"/>
  <Override PartName="/ppt/media/image46.png" ContentType="image/png"/>
  <Override PartName="/ppt/media/image47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12.png" ContentType="image/png"/>
  <Override PartName="/ppt/media/image49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5.png" ContentType="image/png"/>
  <Override PartName="/ppt/media/image43.jpeg" ContentType="image/jpeg"/>
  <Override PartName="/ppt/media/image35.png" ContentType="image/png"/>
  <Override PartName="/ppt/media/image39.jpeg" ContentType="image/jpeg"/>
  <Override PartName="/ppt/media/image38.png" ContentType="image/png"/>
  <Override PartName="/ppt/media/image8.png" ContentType="image/png"/>
  <Override PartName="/ppt/media/image14.jpeg" ContentType="image/jpeg"/>
  <Override PartName="/ppt/media/image54.png" ContentType="image/png"/>
  <Override PartName="/ppt/media/image37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65AC-BDB1-493A-A1DE-1B563BF0A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6C23-77C6-4542-B5BF-32FA6C176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6C9C-709B-44F2-8DF1-BAB0A4427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AF86-EDA4-4484-B98B-7D951255B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5A07-D9BA-4966-AC67-E256B5C93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B485-36A7-433A-9D05-2A918A6EB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5899-2B2F-4DDA-AB46-F83E52AB6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DCF1-D162-4314-86BB-D04E55587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E7DD-A339-46BE-ACFC-F98E4A72D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DF1B-1D83-4EE0-B98B-CF79A651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5905-B6F7-41C0-9904-11F41A26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08C5-8A47-4460-99EC-4761A743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E5753-D1D6-46B8-9C68-78D8B84BA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pn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image" Target="../media/image44.png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46080" y="168120"/>
            <a:ext cx="7392960" cy="5376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19200" y="5584680"/>
            <a:ext cx="62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zioni guida ex tempore 2 - strut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68440" y="6027840"/>
            <a:ext cx="628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g. Luca Capella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rcRect l="22222" t="0" r="13172" b="0"/>
          <a:stretch/>
        </p:blipFill>
        <p:spPr>
          <a:xfrm>
            <a:off x="330120" y="3648240"/>
            <a:ext cx="3848040" cy="3025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900680" y="3776760"/>
            <a:ext cx="3495600" cy="29034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1065240" y="933480"/>
            <a:ext cx="4811760" cy="13795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68440" y="298440"/>
            <a:ext cx="7994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° strati: 3 oppure 5 7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pessori commerci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mensioni commercial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240/250/272/295)x1350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Giunti verticali (pareti)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Giunti orizzontali (sola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320" y="0"/>
            <a:ext cx="32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vola tipo Sistema a Pannel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25280" y="333360"/>
            <a:ext cx="2648160" cy="33624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784600" y="331920"/>
            <a:ext cx="2460600" cy="33955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5305320" y="0"/>
            <a:ext cx="2586240" cy="34257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rcRect l="0" t="0" r="16535" b="0"/>
          <a:stretch/>
        </p:blipFill>
        <p:spPr>
          <a:xfrm>
            <a:off x="7821720" y="1935000"/>
            <a:ext cx="1322280" cy="15544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6497640" y="5240160"/>
            <a:ext cx="2646360" cy="1602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4497480" y="5411880"/>
            <a:ext cx="1903320" cy="14461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7"/>
          <a:stretch/>
        </p:blipFill>
        <p:spPr>
          <a:xfrm>
            <a:off x="4516560" y="3741840"/>
            <a:ext cx="1635120" cy="16668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8"/>
          <a:stretch/>
        </p:blipFill>
        <p:spPr>
          <a:xfrm>
            <a:off x="0" y="5184720"/>
            <a:ext cx="2527200" cy="16732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9"/>
          <a:stretch/>
        </p:blipFill>
        <p:spPr>
          <a:xfrm>
            <a:off x="2157480" y="4048200"/>
            <a:ext cx="2320920" cy="16383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0" y="3814920"/>
            <a:ext cx="2016000" cy="1099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Copertura a giardino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Doppio tavolato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   20 kg/m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" spc="-1" strike="noStrike" u="sng">
                <a:solidFill>
                  <a:srgbClr val="000000"/>
                </a:solidFill>
                <a:uFillTx/>
                <a:latin typeface="Arial"/>
              </a:rPr>
              <a:t>Guaine + terreno                          180 kg/m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 280 kg/m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6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6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6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6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400 kg/m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0"/>
          <a:stretch/>
        </p:blipFill>
        <p:spPr>
          <a:xfrm>
            <a:off x="6208560" y="3576600"/>
            <a:ext cx="2935440" cy="15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5840" y="1217520"/>
            <a:ext cx="865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ondazion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3352680" y="1257480"/>
            <a:ext cx="5727960" cy="49780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43080" y="6189840"/>
            <a:ext cx="8659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VAM s.p.a. Progetto di un fabbricato secondo i principi dell’architettura biologica – Mirandola (M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Progetto struttura  - Studio Capella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317520" y="1712880"/>
            <a:ext cx="3111480" cy="1835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343080" y="3840120"/>
            <a:ext cx="3017520" cy="218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972040" y="1271520"/>
            <a:ext cx="2880000" cy="21607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343080" y="5075280"/>
            <a:ext cx="4760640" cy="142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5508720" y="3745080"/>
            <a:ext cx="3635280" cy="28587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343080" y="1273320"/>
            <a:ext cx="2879640" cy="21603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6"/>
          <a:stretch/>
        </p:blipFill>
        <p:spPr>
          <a:xfrm>
            <a:off x="3321000" y="1428840"/>
            <a:ext cx="2554200" cy="19159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7"/>
          <a:stretch/>
        </p:blipFill>
        <p:spPr>
          <a:xfrm>
            <a:off x="339840" y="3562200"/>
            <a:ext cx="4892400" cy="14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85840" y="1284120"/>
            <a:ext cx="860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23840" y="277812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151080" y="2386080"/>
            <a:ext cx="0" cy="12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47840" y="238932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08240" y="3013200"/>
            <a:ext cx="93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156120" y="3649680"/>
            <a:ext cx="95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148280" y="2185920"/>
            <a:ext cx="477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anenti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Peso della struttura (sempre present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119480" y="3448080"/>
            <a:ext cx="471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identali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(neve, peso delle persone, arredament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19040" y="4633920"/>
            <a:ext cx="6623280" cy="15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85840" y="1284120"/>
            <a:ext cx="3368520" cy="14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uce, Interas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luce) = 5.3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(interasse) = 0.80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fascia rossa è l’area di influenza del travet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3716280" y="1417680"/>
            <a:ext cx="5456160" cy="51228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509760" y="3798720"/>
            <a:ext cx="230004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5840" y="12841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perman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90720" y="3311640"/>
            <a:ext cx="15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per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402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369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97360" y="3546360"/>
            <a:ext cx="188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448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91508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21200" y="333072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908600" y="4537080"/>
            <a:ext cx="290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21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22800" y="14590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fald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solamen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1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Tegole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  6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24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730760" y="205884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43080" y="130032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534960" y="1627200"/>
            <a:ext cx="3090960" cy="1487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504720" y="3538440"/>
            <a:ext cx="4152960" cy="315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1" name=""/>
          <p:cNvSpPr/>
          <p:nvPr/>
        </p:nvSpPr>
        <p:spPr>
          <a:xfrm>
            <a:off x="343080" y="315900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64040" y="47577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045120" y="4086360"/>
            <a:ext cx="268596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pian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acchetto copertur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hiaia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1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2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37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22800" y="18208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giardin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Doppio tavola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uaine + terreno                          1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2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4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49800" y="24969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43080" y="1300320"/>
            <a:ext cx="19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333360" y="1779480"/>
            <a:ext cx="4699080" cy="160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accident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5840" y="16462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arichi accidentali in copertura sono riferiti alla neve è cambiano in relazione alle località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iamo come città Ferrara, Bari e Bolza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351000" y="2281320"/>
            <a:ext cx="6592680" cy="41972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7162920" y="2330280"/>
            <a:ext cx="198108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cidentali nev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rara 12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lzano 43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i 8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33280" y="2033640"/>
            <a:ext cx="1220760" cy="94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595520" y="2028960"/>
            <a:ext cx="1190520" cy="94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2943360" y="2048040"/>
            <a:ext cx="1171440" cy="933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362240" y="1351080"/>
            <a:ext cx="62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chema statico di una strut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91120" y="2022480"/>
            <a:ext cx="4209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e comportamenti statici nelle struttu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rtamento glob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rtamento del pannello nel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rtamento del pannello fuori dal pian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5840" y="3191040"/>
            <a:ext cx="206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e evitare tutto ci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16400" y="5784840"/>
            <a:ext cx="115272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6378480" y="5213160"/>
            <a:ext cx="1952640" cy="127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5213520" y="4495680"/>
            <a:ext cx="1952280" cy="12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170840" y="4495680"/>
            <a:ext cx="115236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211720" y="4851360"/>
            <a:ext cx="115272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207040" y="484164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6370560" y="55623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174080" y="357516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7169040" y="356544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8332920" y="428616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202440" y="420048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197760" y="41907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361280" y="491148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5840" y="348300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 telai nella figura a destra potrebbero da soli sostenere un solaio, ma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5840" y="4038480"/>
            <a:ext cx="4300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 rende necessario il loro collegamento con delle travi, per le sollecitazioni che provocherebbero il ribaltamento, ma…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5840" y="492768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 rende necessario l’aggiunta di controventature per contrastare le azioni orizzonta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3223800">
            <a:off x="5346720" y="47894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3223800">
            <a:off x="6365880" y="41702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3223800">
            <a:off x="7305480" y="355428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375240" y="427968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5210280" y="356832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2369400">
            <a:off x="8124480" y="563040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2369400">
            <a:off x="7121160" y="628776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3010400">
            <a:off x="5008320" y="429192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13010400">
            <a:off x="5978160" y="369324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373800" y="4923000"/>
            <a:ext cx="97776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7364520" y="4284360"/>
            <a:ext cx="95544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369120" y="5559480"/>
            <a:ext cx="99360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53360" y="4911840"/>
            <a:ext cx="984240" cy="29844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5208480" y="4204800"/>
            <a:ext cx="97812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6199200" y="3567240"/>
            <a:ext cx="95580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03800" y="4842000"/>
            <a:ext cx="99396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88040" y="4194000"/>
            <a:ext cx="984240" cy="2988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5840" y="5657760"/>
            <a:ext cx="43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esso la nostra struttura è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3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5" dur="3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" dur="3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3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4" dur="3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5" dur="3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rico sis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1573200" y="1744560"/>
            <a:ext cx="63136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353880" y="2352600"/>
            <a:ext cx="8634600" cy="32241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285840" y="1690560"/>
            <a:ext cx="86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000000"/>
                </a:solidFill>
                <a:uFillTx/>
                <a:latin typeface="Arial"/>
              </a:rPr>
              <a:t>Tabella di predimension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85840" y="1690560"/>
            <a:ext cx="86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ediamo come in base ai riferimenti delle città considerate, si ottiene il predimensionamento di una copertura a due fal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263520" y="2109960"/>
            <a:ext cx="851076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5840" y="128412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struzioni in leg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90560" y="3311640"/>
            <a:ext cx="26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pologia costrut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308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275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387600" y="3546360"/>
            <a:ext cx="188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354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0532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latform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11800" y="337824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vi e pilast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299200" y="4537080"/>
            <a:ext cx="29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nnelli porta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5840" y="128268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Platform 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47560" y="2484360"/>
            <a:ext cx="3934080" cy="12193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85840" y="17128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mposta da montanti di dimensioni 60mmx120mm, posizionati ad interasse di 60cm assemblati da pannelli OSB spessore 25m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alizzazione di spazi con luci inferiori a 6 m, schema tipologico vincolato a piante squad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3480" y="3622680"/>
            <a:ext cx="311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olare dello schema struttur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 rot="60000">
            <a:off x="576360" y="4057560"/>
            <a:ext cx="7547040" cy="2556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27040" y="6356520"/>
            <a:ext cx="3111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 tipologie di pia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947880" y="1538280"/>
            <a:ext cx="3228840" cy="29908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08120" y="47149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ertura (ingressi, finest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67200" y="6210360"/>
            <a:ext cx="389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cato assonometrico di una strut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952880" y="1257480"/>
            <a:ext cx="3753000" cy="4933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5840" y="133020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Arial"/>
              </a:rPr>
              <a:t>Travi e pilast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5840" y="17794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mposta da pilastri di dimensione 20cmx20cm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334120" y="2540160"/>
            <a:ext cx="3438360" cy="2293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343080" y="2300400"/>
            <a:ext cx="4873320" cy="4290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33280" y="1206360"/>
            <a:ext cx="4469040" cy="5237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780080" y="3535200"/>
            <a:ext cx="4128840" cy="2619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5129280" y="1265400"/>
            <a:ext cx="3551040" cy="2238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848120" y="6068880"/>
            <a:ext cx="42958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u="sng">
                <a:solidFill>
                  <a:srgbClr val="000000"/>
                </a:solidFill>
                <a:uFillTx/>
                <a:latin typeface="Arial"/>
              </a:rPr>
              <a:t>Cognento (MO): Sala condomini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800" spc="-1" strike="noStrike">
                <a:solidFill>
                  <a:srgbClr val="000000"/>
                </a:solidFill>
                <a:latin typeface="Arial"/>
              </a:rPr>
              <a:t>Progetto struttura  - Studio Capella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219720" y="260280"/>
            <a:ext cx="2635200" cy="6318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848120" y="6068880"/>
            <a:ext cx="42958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San Giovanni In Persiceto (PO): Ampliamento civile abitazi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Progetto struttura  - Studio Capella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648320" y="760320"/>
            <a:ext cx="3987720" cy="3780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52920" cy="28116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0" y="2760840"/>
            <a:ext cx="4560840" cy="25160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0" y="5243400"/>
            <a:ext cx="1995480" cy="16146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2006640" y="5162400"/>
            <a:ext cx="2511360" cy="16956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6675480" y="4057560"/>
            <a:ext cx="231120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5840" y="1330200"/>
            <a:ext cx="575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Arial"/>
              </a:rPr>
              <a:t>Pannelli portanti XLAM Legno lamellare incroci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5840" y="17794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annelli composti  da  vari strati di tavole in legno massiccio messi insieme con colle sintetiche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61800" y="2655720"/>
            <a:ext cx="4903920" cy="39052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5365800" y="2847960"/>
            <a:ext cx="3638520" cy="30114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09:26:41Z</dcterms:created>
  <dc:creator>OEM</dc:creator>
  <dc:description/>
  <dc:language>en-US</dc:language>
  <cp:lastModifiedBy>Capellari Luca</cp:lastModifiedBy>
  <dcterms:modified xsi:type="dcterms:W3CDTF">2010-10-26T16:01:57Z</dcterms:modified>
  <cp:revision>23</cp:revision>
  <dc:subject/>
  <dc:title>Diapositiva 1</dc:title>
</cp:coreProperties>
</file>